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7735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254560" y="-36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3121200" y="842760"/>
            <a:ext cx="3033360" cy="22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6403680"/>
            <a:ext cx="40194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5254560" y="6403680"/>
            <a:ext cx="40197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17CE-24EA-4C51-9005-58C08CFEFE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0F8-BC0A-4B31-90A0-9F0251F973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D0B6-BEF7-4E08-9009-7A96AF9861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6BC-F7FD-468B-8241-8BFA7C8871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F79-CA9F-42EA-9D39-031696F024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4DD-7A11-475A-A2C9-511D61DC35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C3E2-6688-4CDA-9CBA-348208458F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E2E-5A7C-42B8-AD7C-A7ED4C93FA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21200" y="843120"/>
            <a:ext cx="3033360" cy="227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7000" y="3244680"/>
            <a:ext cx="742176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5254560" y="6404040"/>
            <a:ext cx="401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C44D-235C-4415-A336-63F9180064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582-EBDF-4B1F-91D1-6A8B7690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699-8C88-4045-BC7F-F09E6EBC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E38-3067-43C5-823F-0A9D769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971-D692-4F1C-A64B-958D11F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24E-78A4-4824-905A-9727EB5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818-5FFD-46B8-8472-E5EEBD7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E93-53A8-4FB7-AE14-73F0A20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41E-298D-41B3-9530-5C4540F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0D8-9646-4E50-AFE2-8EB9AF9C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C74-00F1-4040-959D-5764DC2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FAF-AF7C-4A35-A437-71DC5F48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A27-17D4-4B33-809A-DB6161CE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3" descr="LOGO.bmp"/>
          <p:cNvPicPr/>
          <p:nvPr/>
        </p:nvPicPr>
        <p:blipFill>
          <a:blip r:embed="rId2"/>
          <a:stretch/>
        </p:blipFill>
        <p:spPr>
          <a:xfrm>
            <a:off x="0" y="0"/>
            <a:ext cx="18716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hteck 1"/>
          <p:cNvSpPr/>
          <p:nvPr/>
        </p:nvSpPr>
        <p:spPr>
          <a:xfrm>
            <a:off x="830160" y="809640"/>
            <a:ext cx="6075360" cy="6075360"/>
          </a:xfrm>
          <a:prstGeom prst="rect">
            <a:avLst/>
          </a:prstGeom>
          <a:solidFill>
            <a:srgbClr val="33992b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Bild 3" descr="LOGO.bmp"/>
          <p:cNvPicPr/>
          <p:nvPr/>
        </p:nvPicPr>
        <p:blipFill>
          <a:blip r:embed="rId2"/>
          <a:stretch/>
        </p:blipFill>
        <p:spPr>
          <a:xfrm>
            <a:off x="0" y="809640"/>
            <a:ext cx="1668600" cy="838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4941-6ED0-45A0-8704-42BBEC20E3C8}" type="slidenum">
              <a:rPr b="0" lang="de-D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penrouteservice.org/dev/#/hom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3"/>
          <p:cNvSpPr/>
          <p:nvPr/>
        </p:nvSpPr>
        <p:spPr>
          <a:xfrm>
            <a:off x="1547640" y="2349360"/>
            <a:ext cx="50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ORS-Routing 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1400" y="1916280"/>
            <a:ext cx="77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üler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chultabelle (xlsx/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nzufüg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"/>
          <p:cNvSpPr/>
          <p:nvPr/>
        </p:nvSpPr>
        <p:spPr>
          <a:xfrm>
            <a:off x="671400" y="10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„Drag and Drop“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2"/>
          <p:cNvSpPr/>
          <p:nvPr/>
        </p:nvSpPr>
        <p:spPr>
          <a:xfrm>
            <a:off x="863640" y="393372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mstieg auf Q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extfeld 1" descr=""/>
          <p:cNvPicPr/>
          <p:nvPr/>
        </p:nvPicPr>
        <p:blipFill>
          <a:blip r:embed="rId1"/>
          <a:stretch/>
        </p:blipFill>
        <p:spPr>
          <a:xfrm>
            <a:off x="609480" y="4700520"/>
            <a:ext cx="6838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"/>
          <p:cNvSpPr/>
          <p:nvPr/>
        </p:nvSpPr>
        <p:spPr>
          <a:xfrm>
            <a:off x="684360" y="99864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 vom Schulverwaltungsam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rzeste fußläufige Strecke von jedem Grundschü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Stadtgebiet zur nächstgelegenen Grundschule ermitte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r Fall in Vier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Einschulungsjahrgang 2026/202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9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chü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sollte die kürzeste Strecke zur nächsten städt. Grund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zur nächsten katholischen Grundschule ermittel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n (Serienbrief) an die Elt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afik 2" descr=""/>
          <p:cNvPicPr/>
          <p:nvPr/>
        </p:nvPicPr>
        <p:blipFill>
          <a:blip r:embed="rId1"/>
          <a:stretch/>
        </p:blipFill>
        <p:spPr>
          <a:xfrm>
            <a:off x="684360" y="4168800"/>
            <a:ext cx="7419960" cy="2647800"/>
          </a:xfrm>
          <a:prstGeom prst="rect">
            <a:avLst/>
          </a:prstGeom>
          <a:ln w="0">
            <a:noFill/>
          </a:ln>
        </p:spPr>
      </p:pic>
      <p:sp>
        <p:nvSpPr>
          <p:cNvPr id="91" name="Textfeld 4"/>
          <p:cNvSpPr/>
          <p:nvPr/>
        </p:nvSpPr>
        <p:spPr>
          <a:xfrm>
            <a:off x="5435640" y="6462720"/>
            <a:ext cx="45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TING-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1052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9640" y="836640"/>
            <a:ext cx="846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33"/>
                </a:solidFill>
                <a:latin typeface="Arial"/>
              </a:rPr>
              <a:t>Datenvorbereitung für die Routingfunktion in QG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ccount bei ORS Tools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en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oute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-S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rvice) </a:t>
            </a: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ptional: Upgrade anford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ORS Tools in QGIS installieren, </a:t>
            </a: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falls noch nicht vorhan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API KEY (Nutzungscode) aus Account in QGIS-PlugIn eint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6192720" y="2365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Arial"/>
              </a:rPr>
              <a:t>Account erstellen für ORS Tool</a:t>
            </a:r>
            <a:br>
              <a:rPr sz="3200"/>
            </a:b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Unter URL: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s://account.heigit.or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nhaltsplatzhalter 1" descr=""/>
          <p:cNvPicPr/>
          <p:nvPr/>
        </p:nvPicPr>
        <p:blipFill>
          <a:blip r:embed="rId1"/>
          <a:stretch/>
        </p:blipFill>
        <p:spPr>
          <a:xfrm>
            <a:off x="747720" y="1357200"/>
            <a:ext cx="5415120" cy="46641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747720" y="6153120"/>
            <a:ext cx="8383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Vorm Ausfüllen des Formulars den Button „I accept the terms of service“ anklic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1"/>
          <p:cNvSpPr/>
          <p:nvPr/>
        </p:nvSpPr>
        <p:spPr>
          <a:xfrm>
            <a:off x="6408720" y="407664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 der Anmeldung erhält man einen API-Ke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QGIS hinterlegt werden mu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4960" y="8859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ttps://account.heigit.org/info/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68784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87840" y="194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1" descr=""/>
          <p:cNvPicPr/>
          <p:nvPr/>
        </p:nvPicPr>
        <p:blipFill>
          <a:blip r:embed="rId1"/>
          <a:stretch/>
        </p:blipFill>
        <p:spPr>
          <a:xfrm>
            <a:off x="555480" y="1366920"/>
            <a:ext cx="6804000" cy="4979880"/>
          </a:xfrm>
          <a:prstGeom prst="rect">
            <a:avLst/>
          </a:prstGeom>
          <a:ln w="0">
            <a:noFill/>
          </a:ln>
        </p:spPr>
      </p:pic>
      <p:sp>
        <p:nvSpPr>
          <p:cNvPr id="108" name="Textfeld 1"/>
          <p:cNvSpPr/>
          <p:nvPr/>
        </p:nvSpPr>
        <p:spPr>
          <a:xfrm>
            <a:off x="284040" y="4545000"/>
            <a:ext cx="224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000 pro Tag/ 4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Verwalt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.000 pro Tag/ 6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Verbinder: gewinkelt 5"/>
          <p:cNvCxnSpPr/>
          <p:nvPr/>
        </p:nvCxnSpPr>
        <p:spPr>
          <a:xfrm flipV="1">
            <a:off x="2376000" y="4544280"/>
            <a:ext cx="18010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10890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1233360"/>
            <a:ext cx="80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300720" y="29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74560" y="876240"/>
            <a:ext cx="7950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Über diese URL „upgrade“ der Datensatzbearbeitung anforde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s://openrouteservice.org/dev/#/home</a:t>
            </a: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s. GISWIKI /QGIS-Talk vom 17.01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rafik 1" descr=""/>
          <p:cNvPicPr/>
          <p:nvPr/>
        </p:nvPicPr>
        <p:blipFill>
          <a:blip r:embed="rId2"/>
          <a:stretch/>
        </p:blipFill>
        <p:spPr>
          <a:xfrm>
            <a:off x="961920" y="2073240"/>
            <a:ext cx="5986440" cy="4165560"/>
          </a:xfrm>
          <a:prstGeom prst="rect">
            <a:avLst/>
          </a:prstGeom>
          <a:ln w="0">
            <a:noFill/>
          </a:ln>
        </p:spPr>
      </p:pic>
      <p:sp>
        <p:nvSpPr>
          <p:cNvPr id="117" name="Textfeld 2"/>
          <p:cNvSpPr/>
          <p:nvPr/>
        </p:nvSpPr>
        <p:spPr>
          <a:xfrm>
            <a:off x="1871640" y="395604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0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tatt 2000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feil: nach rechts 3"/>
          <p:cNvSpPr/>
          <p:nvPr/>
        </p:nvSpPr>
        <p:spPr>
          <a:xfrm>
            <a:off x="3814920" y="4024440"/>
            <a:ext cx="504720" cy="263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4"/>
          <p:cNvSpPr/>
          <p:nvPr/>
        </p:nvSpPr>
        <p:spPr>
          <a:xfrm>
            <a:off x="6948360" y="15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feil: nach rechts 1"/>
          <p:cNvSpPr/>
          <p:nvPr/>
        </p:nvSpPr>
        <p:spPr>
          <a:xfrm>
            <a:off x="519120" y="265752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827680" y="2858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afik 2" descr=""/>
          <p:cNvPicPr/>
          <p:nvPr/>
        </p:nvPicPr>
        <p:blipFill>
          <a:blip r:embed="rId1"/>
          <a:stretch/>
        </p:blipFill>
        <p:spPr>
          <a:xfrm>
            <a:off x="474840" y="1525680"/>
            <a:ext cx="487836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3"/>
          <p:cNvSpPr/>
          <p:nvPr/>
        </p:nvSpPr>
        <p:spPr>
          <a:xfrm>
            <a:off x="539640" y="981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ORS Tools in QGIS installie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afik 7" descr=""/>
          <p:cNvPicPr/>
          <p:nvPr/>
        </p:nvPicPr>
        <p:blipFill>
          <a:blip r:embed="rId2"/>
          <a:stretch/>
        </p:blipFill>
        <p:spPr>
          <a:xfrm>
            <a:off x="216000" y="3765600"/>
            <a:ext cx="8712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796000" y="2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42880" y="87624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en ORS-„Key“in QGIS hinterle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2195640" y="29700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chtigungseintrag in QGIS nach Regist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afik 2" descr=""/>
          <p:cNvPicPr/>
          <p:nvPr/>
        </p:nvPicPr>
        <p:blipFill>
          <a:blip r:embed="rId1"/>
          <a:stretch/>
        </p:blipFill>
        <p:spPr>
          <a:xfrm>
            <a:off x="1619280" y="1278000"/>
            <a:ext cx="46609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9640" y="212868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84400" y="100656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In QGIS unter Verarbeitungswerkzeu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84840" y="3573360"/>
            <a:ext cx="227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2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S Tools in Q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afik 2" descr=""/>
          <p:cNvPicPr/>
          <p:nvPr/>
        </p:nvPicPr>
        <p:blipFill>
          <a:blip r:embed="rId1"/>
          <a:stretch/>
        </p:blipFill>
        <p:spPr>
          <a:xfrm>
            <a:off x="528480" y="1558800"/>
            <a:ext cx="7715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33:37Z</dcterms:created>
  <dc:creator>t601010</dc:creator>
  <dc:description/>
  <dc:language>en-US</dc:language>
  <cp:lastModifiedBy>Adele Knauer</cp:lastModifiedBy>
  <cp:lastPrinted>2013-11-21T07:55:01Z</cp:lastPrinted>
  <dcterms:modified xsi:type="dcterms:W3CDTF">2025-09-04T10:12:37Z</dcterms:modified>
  <cp:revision>309</cp:revision>
  <dc:subject/>
  <dc:title>Folie 1</dc:title>
</cp:coreProperties>
</file>